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23.wmf" ContentType="image/x-wmf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6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0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05D636D-5852-4408-A9CC-91B03268D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AF8338-F94B-444E-B5E2-4582179F5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C36D4A-7FBD-400C-A42D-E754D510B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81DFDC9-5A1F-4BED-A780-B42CB4E38D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ravail d’analyse et de synthèse n’est pas termin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s’agit ici de premières conclusions venant compléter les commentaires de Daniel Alexand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8DBA174-4B11-41BF-8616-554A6ABF8D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377A5E5-1CC7-4B6B-AEFF-CF485F673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0AA1FA6-40F2-47C5-8D13-9A29F0936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ABA28CF-7C62-4A79-A6C9-AD0E628480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9812C5-204B-4947-8C92-C00416EE7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5C3742-A2A7-4B9F-9F67-D003999F8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8D7C57A-4F09-498C-BA80-1F1ED667C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8DB1DCD-0385-46F6-B2F2-2C08A80CD1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CEEC75E-A934-41C2-B880-F57B56CAC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02B029-66F2-417C-B14D-651B9CD74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ravail d’analyse et de synthèse n’est pas termin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s’agit ici de premières conclusions venant compléter les commentaires de Daniel Alexand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8C9A699-0C75-4EC6-9091-EEDE34267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094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ravail d’analyse et de synthèse n’est pas termin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s’agit ici de premières conclusions venant compléter les commentaires de Daniel Alexand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54160" y="84600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169-71FC-4FB4-9B6B-A8150CE3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6F3-9748-4454-A7BB-CA4F327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47D-F217-4CEA-8CA4-1B3C5DF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BAD-475A-46E1-B2B2-4C47FCA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7F5-93C8-42E6-AE43-7F48A0B7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84B-2C4F-4A1E-BEF0-66E9263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241-2479-428C-9A4F-0066C31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E6B-5D13-4590-A9CB-0E9F9C68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6D0-601C-4D16-8700-BB5A5940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14F-7A8D-4891-9B3A-721FCAD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5C9-41B4-46C6-BC42-B21731E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2BB-56A1-4AA2-B265-6E86131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3BA2-AC98-4E00-B40B-BAE419AC4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360" y="1890720"/>
            <a:ext cx="8412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" y="992160"/>
            <a:ext cx="9144000" cy="5859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9560" y="146340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e approche innovante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ur la gestion intégrée des feux de forê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 maîtrisant le problème des incen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ar une utilisation raisonnée du feu 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ésoudre le paradoxe du f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81080" y="158760"/>
            <a:ext cx="5327640" cy="10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3080" y="77760"/>
            <a:ext cx="104292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Unicode MS"/>
              </a:rPr>
              <a:t>Proverbe finland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65530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"Le feu est un mauvais maître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…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s il peut être aussi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très bon serviteur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41600" cy="31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28600" y="-76320"/>
            <a:ext cx="9372600" cy="701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3 « 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domaines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 » sensiblement équivalent</a:t>
            </a:r>
            <a:r>
              <a:rPr b="0" lang="en-ZW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la recherche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(3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le développement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(3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la diffusion des connaissances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(2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…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mais aussi la prise en compte 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Arial"/>
                <a:ea typeface="Arial"/>
              </a:rPr>
              <a:t>de domaines non sector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l’aménagement du territoire (urbanisation, environnement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l’économie (tourisme, Politique Agricole Commun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gestion forestiè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politique énergét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changement climatique,…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282920" y="-3341880"/>
            <a:ext cx="1182600" cy="89712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666633">
                  <a:alpha val="90196"/>
                </a:srgbClr>
              </a:gs>
              <a:gs pos="100000">
                <a:srgbClr val="0033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1880" y="905040"/>
            <a:ext cx="1397160" cy="269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8080" y="787320"/>
            <a:ext cx="74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Une part équilibrée entre recherche, développement et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23720" y="208080"/>
            <a:ext cx="9137520" cy="904320"/>
            <a:chOff x="423720" y="208080"/>
            <a:chExt cx="9137520" cy="904320"/>
          </a:xfrm>
        </p:grpSpPr>
        <p:sp>
          <p:nvSpPr>
            <p:cNvPr id="147" name=""/>
            <p:cNvSpPr/>
            <p:nvPr/>
          </p:nvSpPr>
          <p:spPr>
            <a:xfrm rot="16200000">
              <a:off x="4540320" y="-3908160"/>
              <a:ext cx="904320" cy="91375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97880" y="435600"/>
              <a:ext cx="142308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2362320" y="349200"/>
            <a:ext cx="70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Arial"/>
              </a:rPr>
              <a:t>Structure : la matrice FIRE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09760" y="969840"/>
            <a:ext cx="7149960" cy="360360"/>
            <a:chOff x="1409760" y="969840"/>
            <a:chExt cx="7149960" cy="360360"/>
          </a:xfrm>
        </p:grpSpPr>
        <p:sp>
          <p:nvSpPr>
            <p:cNvPr id="153" name=""/>
            <p:cNvSpPr/>
            <p:nvPr/>
          </p:nvSpPr>
          <p:spPr>
            <a:xfrm>
              <a:off x="1409760" y="9698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écanismes phys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0440" y="96984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09760" y="1427040"/>
            <a:ext cx="7149960" cy="381240"/>
            <a:chOff x="1409760" y="1427040"/>
            <a:chExt cx="7149960" cy="381240"/>
          </a:xfrm>
        </p:grpSpPr>
        <p:sp>
          <p:nvSpPr>
            <p:cNvPr id="156" name=""/>
            <p:cNvSpPr/>
            <p:nvPr/>
          </p:nvSpPr>
          <p:spPr>
            <a:xfrm>
              <a:off x="1409760" y="14270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écanismes biolog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80440" y="14479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09760" y="1884240"/>
            <a:ext cx="7149960" cy="381240"/>
            <a:chOff x="1409760" y="1884240"/>
            <a:chExt cx="7149960" cy="381240"/>
          </a:xfrm>
        </p:grpSpPr>
        <p:sp>
          <p:nvSpPr>
            <p:cNvPr id="159" name=""/>
            <p:cNvSpPr/>
            <p:nvPr/>
          </p:nvSpPr>
          <p:spPr>
            <a:xfrm>
              <a:off x="1409760" y="18842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ciences sociales et économ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0440" y="19051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09760" y="2341440"/>
            <a:ext cx="7149960" cy="381240"/>
            <a:chOff x="1409760" y="2341440"/>
            <a:chExt cx="7149960" cy="381240"/>
          </a:xfrm>
        </p:grpSpPr>
        <p:sp>
          <p:nvSpPr>
            <p:cNvPr id="162" name=""/>
            <p:cNvSpPr/>
            <p:nvPr/>
          </p:nvSpPr>
          <p:spPr>
            <a:xfrm>
              <a:off x="1409760" y="23414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 du risque et cartograph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80440" y="23623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409760" y="2798640"/>
            <a:ext cx="7149960" cy="381240"/>
            <a:chOff x="1409760" y="2798640"/>
            <a:chExt cx="7149960" cy="381240"/>
          </a:xfrm>
        </p:grpSpPr>
        <p:sp>
          <p:nvSpPr>
            <p:cNvPr id="165" name=""/>
            <p:cNvSpPr/>
            <p:nvPr/>
          </p:nvSpPr>
          <p:spPr>
            <a:xfrm>
              <a:off x="1409760" y="27986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éveloppements technolog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0440" y="28195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409760" y="3255840"/>
            <a:ext cx="7149960" cy="381240"/>
            <a:chOff x="1409760" y="3255840"/>
            <a:chExt cx="7149960" cy="381240"/>
          </a:xfrm>
        </p:grpSpPr>
        <p:sp>
          <p:nvSpPr>
            <p:cNvPr id="168" name=""/>
            <p:cNvSpPr/>
            <p:nvPr/>
          </p:nvSpPr>
          <p:spPr>
            <a:xfrm>
              <a:off x="1409760" y="32558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 des politiques et des prat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0440" y="32767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09760" y="3713040"/>
            <a:ext cx="7149960" cy="381240"/>
            <a:chOff x="1409760" y="3713040"/>
            <a:chExt cx="7149960" cy="381240"/>
          </a:xfrm>
        </p:grpSpPr>
        <p:sp>
          <p:nvSpPr>
            <p:cNvPr id="171" name=""/>
            <p:cNvSpPr/>
            <p:nvPr/>
          </p:nvSpPr>
          <p:spPr>
            <a:xfrm>
              <a:off x="1409760" y="37130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uivi en direct des feux et analyses post incend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440" y="37339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409760" y="4170240"/>
            <a:ext cx="7137360" cy="360360"/>
            <a:chOff x="1409760" y="4170240"/>
            <a:chExt cx="7137360" cy="360360"/>
          </a:xfrm>
        </p:grpSpPr>
        <p:sp>
          <p:nvSpPr>
            <p:cNvPr id="174" name=""/>
            <p:cNvSpPr/>
            <p:nvPr/>
          </p:nvSpPr>
          <p:spPr>
            <a:xfrm>
              <a:off x="1409760" y="41702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émonstrations pour le brûlage dirigé et le feu tact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7480" y="417024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09760" y="4627440"/>
            <a:ext cx="7137360" cy="381240"/>
            <a:chOff x="1409760" y="4627440"/>
            <a:chExt cx="7137360" cy="381240"/>
          </a:xfrm>
        </p:grpSpPr>
        <p:sp>
          <p:nvSpPr>
            <p:cNvPr id="177" name=""/>
            <p:cNvSpPr/>
            <p:nvPr/>
          </p:nvSpPr>
          <p:spPr>
            <a:xfrm>
              <a:off x="1409760" y="46274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ormation professionnelle et académ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67480" y="46483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409760" y="5084640"/>
            <a:ext cx="7137360" cy="381240"/>
            <a:chOff x="1409760" y="5084640"/>
            <a:chExt cx="7137360" cy="381240"/>
          </a:xfrm>
        </p:grpSpPr>
        <p:sp>
          <p:nvSpPr>
            <p:cNvPr id="180" name=""/>
            <p:cNvSpPr/>
            <p:nvPr/>
          </p:nvSpPr>
          <p:spPr>
            <a:xfrm>
              <a:off x="1409760" y="50846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ratégies de sensibilisation du publ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7480" y="5105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09760" y="5541840"/>
            <a:ext cx="7149960" cy="381240"/>
            <a:chOff x="1409760" y="5541840"/>
            <a:chExt cx="7149960" cy="381240"/>
          </a:xfrm>
        </p:grpSpPr>
        <p:sp>
          <p:nvSpPr>
            <p:cNvPr id="183" name=""/>
            <p:cNvSpPr/>
            <p:nvPr/>
          </p:nvSpPr>
          <p:spPr>
            <a:xfrm>
              <a:off x="1409760" y="5541840"/>
              <a:ext cx="359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ide à la décision pour les politiques publiq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80440" y="5562720"/>
              <a:ext cx="107928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80880" y="969480"/>
            <a:ext cx="873360" cy="4974120"/>
            <a:chOff x="380880" y="969480"/>
            <a:chExt cx="873360" cy="4974120"/>
          </a:xfrm>
        </p:grpSpPr>
        <p:sp>
          <p:nvSpPr>
            <p:cNvPr id="186" name=""/>
            <p:cNvSpPr/>
            <p:nvPr/>
          </p:nvSpPr>
          <p:spPr>
            <a:xfrm rot="16200000">
              <a:off x="437400" y="1425960"/>
              <a:ext cx="12733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Recher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-19440" y="3277080"/>
              <a:ext cx="21877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évelop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415800" y="5105160"/>
              <a:ext cx="131616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iffusion des connaissa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-1925640" y="3276360"/>
              <a:ext cx="4973760" cy="36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oma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427040" y="533520"/>
            <a:ext cx="35989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pécialit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2885040" y="3302640"/>
            <a:ext cx="49528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P13.1 – integration du brûlage dirig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3528000" y="3286800"/>
            <a:ext cx="49528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P13.2 – integration de l’éclosion du f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158360" y="3286800"/>
            <a:ext cx="49528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P13.3 – integration de la propagation du f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4742640" y="3297960"/>
            <a:ext cx="49528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P13.4 – integration du feu tact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164200" y="533520"/>
            <a:ext cx="3382920" cy="360360"/>
            <a:chOff x="5164200" y="533520"/>
            <a:chExt cx="3382920" cy="360360"/>
          </a:xfrm>
        </p:grpSpPr>
        <p:sp>
          <p:nvSpPr>
            <p:cNvPr id="196" name=""/>
            <p:cNvSpPr/>
            <p:nvPr/>
          </p:nvSpPr>
          <p:spPr>
            <a:xfrm>
              <a:off x="7467480" y="5335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4200" y="533520"/>
              <a:ext cx="22273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062680" y="6100920"/>
            <a:ext cx="3490920" cy="363240"/>
            <a:chOff x="5062680" y="6100920"/>
            <a:chExt cx="3490920" cy="363240"/>
          </a:xfrm>
        </p:grpSpPr>
        <p:sp>
          <p:nvSpPr>
            <p:cNvPr id="199" name=""/>
            <p:cNvSpPr/>
            <p:nvPr/>
          </p:nvSpPr>
          <p:spPr>
            <a:xfrm>
              <a:off x="7473960" y="610092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ule 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62680" y="6103800"/>
              <a:ext cx="231444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tég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8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Recher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  <a:ea typeface="Arial"/>
              </a:rPr>
              <a:t>Passage au modèle 3D de propagation du f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  <a:ea typeface="Arial"/>
              </a:rPr>
              <a:t>Vers des modèles de propagation multi fronts (intéra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  <a:ea typeface="Arial"/>
              </a:rPr>
              <a:t>Caractérisation du combustible par voies aérienne et satelli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  <a:ea typeface="Arial"/>
              </a:rPr>
              <a:t>Couplage modèles physiques et modèles biolog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"/>
                <a:ea typeface="Arial"/>
              </a:rPr>
              <a:t>écologie du feu - Impacts sur le mili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c00"/>
                </a:solidFill>
                <a:latin typeface="Arial"/>
                <a:ea typeface="Arial"/>
              </a:rPr>
              <a:t>Sciences sociales, anthropologie et écono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800" y="740880"/>
            <a:ext cx="8970840" cy="649080"/>
            <a:chOff x="388800" y="740880"/>
            <a:chExt cx="8970840" cy="649080"/>
          </a:xfrm>
        </p:grpSpPr>
        <p:sp>
          <p:nvSpPr>
            <p:cNvPr id="205" name=""/>
            <p:cNvSpPr/>
            <p:nvPr/>
          </p:nvSpPr>
          <p:spPr>
            <a:xfrm rot="16200000">
              <a:off x="4549680" y="-3419640"/>
              <a:ext cx="649080" cy="8970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61880" y="904680"/>
              <a:ext cx="13971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>
            <a:off x="2008080" y="78732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Les actions p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282920" y="4137120"/>
            <a:ext cx="6258240" cy="2517840"/>
            <a:chOff x="4282920" y="4137120"/>
            <a:chExt cx="6258240" cy="251784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4282920" y="4233960"/>
              <a:ext cx="584208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238880" y="4137120"/>
              <a:ext cx="3302280" cy="2517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2600" y="4016520"/>
            <a:ext cx="2449440" cy="28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440" y="2069640"/>
            <a:ext cx="826596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Le simulateur de feu europ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L’éditeur de combustible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et la visualisation des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Bases scientifiques estiv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Observations aériennes sur incen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800" y="740880"/>
            <a:ext cx="8970840" cy="649080"/>
            <a:chOff x="388800" y="740880"/>
            <a:chExt cx="8970840" cy="649080"/>
          </a:xfrm>
        </p:grpSpPr>
        <p:sp>
          <p:nvSpPr>
            <p:cNvPr id="214" name=""/>
            <p:cNvSpPr/>
            <p:nvPr/>
          </p:nvSpPr>
          <p:spPr>
            <a:xfrm rot="16200000">
              <a:off x="4549680" y="-3419640"/>
              <a:ext cx="649080" cy="8970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461880" y="904680"/>
              <a:ext cx="13971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2008080" y="78732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Les actions p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08520" y="2054160"/>
            <a:ext cx="3006720" cy="1898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1040" y="4125960"/>
            <a:ext cx="2946600" cy="2536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978600" y="4113360"/>
            <a:ext cx="1940040" cy="2744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483000" y="4370400"/>
            <a:ext cx="333360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2069640"/>
            <a:ext cx="826596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Diffusion des connaissances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Modules de formations sur la gestion intégrée du feu (Mast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Formation des formateurs BD et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Echanges entre professio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Etude des stratégies d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Journal en ligne de Fire Parad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Le livre blanc Fire Parad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8800" y="740880"/>
            <a:ext cx="8970840" cy="649080"/>
            <a:chOff x="388800" y="740880"/>
            <a:chExt cx="8970840" cy="649080"/>
          </a:xfrm>
        </p:grpSpPr>
        <p:sp>
          <p:nvSpPr>
            <p:cNvPr id="223" name=""/>
            <p:cNvSpPr/>
            <p:nvPr/>
          </p:nvSpPr>
          <p:spPr>
            <a:xfrm rot="16200000">
              <a:off x="4549680" y="-3419640"/>
              <a:ext cx="649080" cy="8970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461880" y="904680"/>
              <a:ext cx="13971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2008080" y="78732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Les actions p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66320" y="4748040"/>
            <a:ext cx="41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ttp://www.fireparadox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58760" y="4352760"/>
            <a:ext cx="3084480" cy="25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79280" y="186840"/>
            <a:ext cx="8785440" cy="649080"/>
            <a:chOff x="179280" y="186840"/>
            <a:chExt cx="8785440" cy="649080"/>
          </a:xfrm>
        </p:grpSpPr>
        <p:sp>
          <p:nvSpPr>
            <p:cNvPr id="229" name=""/>
            <p:cNvSpPr/>
            <p:nvPr/>
          </p:nvSpPr>
          <p:spPr>
            <a:xfrm rot="16200000">
              <a:off x="4247280" y="-388116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250920" y="35064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3060720" y="260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10717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31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partenaires de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13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ays, compren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8640" y="2565360"/>
            <a:ext cx="5148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Universités et é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Instituts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Organismes publiques (Services forestiers, Protection civ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Réseaux internation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2038320"/>
            <a:ext cx="4316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71640" y="1293840"/>
            <a:ext cx="1681200" cy="1127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98560" y="3782880"/>
            <a:ext cx="1728720" cy="115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562200" y="5132520"/>
            <a:ext cx="1729080" cy="1158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48360" y="1631880"/>
            <a:ext cx="1728720" cy="1158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562200" y="1197000"/>
            <a:ext cx="1729080" cy="1158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62560" y="5268960"/>
            <a:ext cx="23050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MA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OMIKRON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2200" y="2567160"/>
            <a:ext cx="230508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C3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NIA-CI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GESC-GR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XG-CIF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L-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T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5127480"/>
            <a:ext cx="230508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N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NIVE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EMAG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M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3141720"/>
            <a:ext cx="36003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RBOPAVE-U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FVA/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8560" y="2556000"/>
            <a:ext cx="23050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SA-CEA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9280" y="115560"/>
            <a:ext cx="8785440" cy="649080"/>
            <a:chOff x="179280" y="115560"/>
            <a:chExt cx="8785440" cy="649080"/>
          </a:xfrm>
        </p:grpSpPr>
        <p:sp>
          <p:nvSpPr>
            <p:cNvPr id="246" name=""/>
            <p:cNvSpPr/>
            <p:nvPr/>
          </p:nvSpPr>
          <p:spPr>
            <a:xfrm rot="16200000">
              <a:off x="4247280" y="-395244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50920" y="27936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3060720" y="189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95280" y="331560"/>
            <a:ext cx="8785080" cy="649080"/>
            <a:chOff x="395280" y="331560"/>
            <a:chExt cx="8785080" cy="649080"/>
          </a:xfrm>
        </p:grpSpPr>
        <p:sp>
          <p:nvSpPr>
            <p:cNvPr id="250" name=""/>
            <p:cNvSpPr/>
            <p:nvPr/>
          </p:nvSpPr>
          <p:spPr>
            <a:xfrm rot="16200000">
              <a:off x="4463280" y="-3736080"/>
              <a:ext cx="649080" cy="87850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466560" y="495360"/>
              <a:ext cx="136800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3276720" y="404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Arial"/>
              </a:rPr>
              <a:t>Le consor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867280" y="3483000"/>
            <a:ext cx="1368720" cy="917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1433520" cy="882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773440" y="4941720"/>
            <a:ext cx="1366920" cy="860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771640" y="3284640"/>
            <a:ext cx="1368720" cy="917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539640" y="3860640"/>
            <a:ext cx="1511280" cy="1013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5867280" y="4700520"/>
            <a:ext cx="1368720" cy="917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612720" y="1587600"/>
            <a:ext cx="1655640" cy="833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308720" y="3789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N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2708280"/>
            <a:ext cx="23050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5950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FRI-FF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4292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4941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NRG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5084640"/>
            <a:ext cx="1440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W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637000"/>
            <a:ext cx="23050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E-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UE-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2771640" y="1628640"/>
            <a:ext cx="1438560" cy="870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00360" y="2637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GF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95280" y="331560"/>
            <a:ext cx="8785080" cy="649080"/>
            <a:chOff x="395280" y="331560"/>
            <a:chExt cx="8785080" cy="649080"/>
          </a:xfrm>
        </p:grpSpPr>
        <p:sp>
          <p:nvSpPr>
            <p:cNvPr id="270" name=""/>
            <p:cNvSpPr/>
            <p:nvPr/>
          </p:nvSpPr>
          <p:spPr>
            <a:xfrm rot="16200000">
              <a:off x="4463280" y="-3736080"/>
              <a:ext cx="649080" cy="87850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466560" y="495360"/>
              <a:ext cx="136800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2303640" y="414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Arial"/>
              </a:rPr>
              <a:t>Fire Paradox TTC : le projet INCO d’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1200" y="2535120"/>
            <a:ext cx="7115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G Omega"/>
                <a:ea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G Omega"/>
                <a:ea typeface="Arial"/>
              </a:rPr>
              <a:t>Arge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Arial"/>
              </a:rPr>
              <a:t>Centro de Investigación y Extensión Forestal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Arial"/>
              </a:rPr>
              <a:t>Andino Patagónico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(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CIEFAP)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Esq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ffcc00"/>
                </a:solidFill>
                <a:latin typeface="Arial"/>
                <a:ea typeface="Arial"/>
              </a:rPr>
              <a:t>Instituto Nacional de Tecnologia Agropecuaria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(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INTA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), B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uenos 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G Omega"/>
                <a:ea typeface="Arial"/>
              </a:rPr>
              <a:t>Afrique du 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Silva Forest Services CC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(SFS),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Sedge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G Omega"/>
                <a:ea typeface="Arial"/>
              </a:rPr>
              <a:t>Russie et Mongo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Pacific Forest Forum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 (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PFF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),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Arial"/>
              </a:rPr>
              <a:t>Khabarov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13520" y="1442880"/>
            <a:ext cx="30304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72880" y="747360"/>
            <a:ext cx="8785440" cy="649080"/>
            <a:chOff x="272880" y="747360"/>
            <a:chExt cx="8785440" cy="649080"/>
          </a:xfrm>
        </p:grpSpPr>
        <p:sp>
          <p:nvSpPr>
            <p:cNvPr id="54" name=""/>
            <p:cNvSpPr/>
            <p:nvPr/>
          </p:nvSpPr>
          <p:spPr>
            <a:xfrm rot="16200000">
              <a:off x="4340880" y="-332064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44520" y="91116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rogramme 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dre 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echerche Développ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6° PC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ppel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3° appel du </a:t>
            </a:r>
            <a:r>
              <a:rPr b="0" lang="en-ZW" sz="1800" spc="-1" strike="noStrike">
                <a:solidFill>
                  <a:srgbClr val="ffcc00"/>
                </a:solidFill>
                <a:latin typeface="Arial"/>
              </a:rPr>
              <a:t>15 juin 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Programme 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spécifique 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800" spc="-1" strike="noStrike">
                <a:solidFill>
                  <a:srgbClr val="ffcc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0" lang="en-ZW" sz="1800" spc="-1" strike="noStrike">
                <a:solidFill>
                  <a:srgbClr val="ffcc00"/>
                </a:solidFill>
                <a:latin typeface="Arial"/>
              </a:rPr>
              <a:t>gr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er et renforcer la recherche europé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Instrument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800" spc="-1" strike="noStrike">
                <a:solidFill>
                  <a:srgbClr val="ffcc00"/>
                </a:solidFill>
                <a:latin typeface="Arial"/>
              </a:rPr>
              <a:t>Projet 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intégré (recherche/développement/transf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Thème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Gestion intégrée des feux de forê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Durée 48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Période : mars 2006 – févri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Plan détaillé sur périodes glissantes de 18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06800" y="760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 c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Equipe de c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oord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i</a:t>
            </a:r>
            <a:r>
              <a:rPr b="0" lang="en-ZW" sz="2000" spc="-1" strike="noStrike">
                <a:solidFill>
                  <a:srgbClr val="ffcc00"/>
                </a:solidFill>
                <a:latin typeface="Arial"/>
                <a:ea typeface="Arial"/>
              </a:rPr>
              <a:t>n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SA, Portug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INRA, Fra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TAD, Portug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TDA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Comité consultatif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12 me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Experts loc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Forestiers et pomp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  <a:ea typeface="Arial"/>
              </a:rPr>
              <a:t>Coopération avec l’ensemble de la communauté de recherche européenne sur les feux de forê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72880" y="703080"/>
            <a:ext cx="8785440" cy="649080"/>
            <a:chOff x="272880" y="703080"/>
            <a:chExt cx="8785440" cy="649080"/>
          </a:xfrm>
        </p:grpSpPr>
        <p:sp>
          <p:nvSpPr>
            <p:cNvPr id="277" name=""/>
            <p:cNvSpPr/>
            <p:nvPr/>
          </p:nvSpPr>
          <p:spPr>
            <a:xfrm rot="16200000">
              <a:off x="4340880" y="-336492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344520" y="86688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06800" y="760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s caractérist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19040" y="256500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just">
              <a:lnSpc>
                <a:spcPct val="105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800" spc="-1" strike="noStrike">
                <a:solidFill>
                  <a:srgbClr val="ffcc00"/>
                </a:solidFill>
                <a:latin typeface="Arial"/>
                <a:ea typeface="Arial"/>
              </a:rPr>
              <a:t>Recherche europé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Coopération acc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14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Professionnels forestiers et pomp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Meilleure inté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Utilisation extensive et appropriée du f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Développement des é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14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Meilleure sensibilisation et prépa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05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Comportement plus sûr en cas de c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14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Arial"/>
                <a:ea typeface="Arial"/>
              </a:rPr>
              <a:t>Porteurs d’enj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  <a:ea typeface="Arial"/>
              </a:rPr>
              <a:t>Nouvelle approche du do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  <a:ea typeface="Arial"/>
              </a:rPr>
              <a:t>Evolution des politiques et des rég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72880" y="188640"/>
            <a:ext cx="8785440" cy="649080"/>
            <a:chOff x="272880" y="188640"/>
            <a:chExt cx="8785440" cy="649080"/>
          </a:xfrm>
        </p:grpSpPr>
        <p:sp>
          <p:nvSpPr>
            <p:cNvPr id="283" name=""/>
            <p:cNvSpPr/>
            <p:nvPr/>
          </p:nvSpPr>
          <p:spPr>
            <a:xfrm rot="16200000">
              <a:off x="4340880" y="-387936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344520" y="35244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1720800" y="254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s bénéfices attendus de Fire Parad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8088480" y="160200"/>
            <a:ext cx="941400" cy="684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89680" y="1467000"/>
            <a:ext cx="3958920" cy="47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1280" y="100080"/>
            <a:ext cx="1908360" cy="376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4066920" cy="2809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292720" y="5661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35640" y="83664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85920" y="1123920"/>
            <a:ext cx="4186080" cy="5545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11280" y="1484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2560" y="595008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120" y="184320"/>
            <a:ext cx="839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Le feu est inévitabl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ais il n’est pas inévitablement catastroph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97600" y="5468760"/>
            <a:ext cx="3546360" cy="1389240"/>
            <a:chOff x="5097600" y="5468760"/>
            <a:chExt cx="3546360" cy="1389240"/>
          </a:xfrm>
        </p:grpSpPr>
        <p:sp>
          <p:nvSpPr>
            <p:cNvPr id="297" name=""/>
            <p:cNvSpPr/>
            <p:nvPr/>
          </p:nvSpPr>
          <p:spPr>
            <a:xfrm>
              <a:off x="5437080" y="5468760"/>
              <a:ext cx="320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Merci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9760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6200000">
            <a:off x="4340880" y="-3387240"/>
            <a:ext cx="649080" cy="8785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666633">
                  <a:alpha val="90196"/>
                </a:srgbClr>
              </a:gs>
              <a:gs pos="100000">
                <a:srgbClr val="0033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4520" y="844560"/>
            <a:ext cx="1368360" cy="270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pprendre à vivre avec le f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e « Paradoxe du feu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e feu comme agent de de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e feu comme outil de 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8480" y="3986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Déficit de 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3680" y="5530680"/>
            <a:ext cx="30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xculsion du feu (Lutte systémat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4280040"/>
            <a:ext cx="287280" cy="1622160"/>
          </a:xfrm>
          <a:custGeom>
            <a:avLst/>
            <a:gdLst>
              <a:gd name="textAreaLeft" fmla="*/ 0 w 287280"/>
              <a:gd name="textAreaRight" fmla="*/ 103680 w 287280"/>
              <a:gd name="textAreaTop" fmla="*/ 42120 h 1622160"/>
              <a:gd name="textAreaBottom" fmla="*/ 1580040 h 16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4606920"/>
            <a:ext cx="22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ccumulation du combus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6782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43178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3300"/>
                </a:solidFill>
                <a:latin typeface="Arial"/>
              </a:rPr>
              <a:t>Incendies sév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7182360" y="5702760"/>
            <a:ext cx="503280" cy="181080"/>
          </a:xfrm>
          <a:prstGeom prst="rightArrow">
            <a:avLst>
              <a:gd name="adj1" fmla="val 50000"/>
              <a:gd name="adj2" fmla="val 6948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5699160"/>
            <a:ext cx="453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Mises à f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Fréquence d’évènements météo extrê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06800" y="760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a philoso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2360" y="907920"/>
            <a:ext cx="8640720" cy="648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60213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72880" y="158400"/>
            <a:ext cx="8785440" cy="649080"/>
            <a:chOff x="272880" y="158400"/>
            <a:chExt cx="8785440" cy="649080"/>
          </a:xfrm>
        </p:grpSpPr>
        <p:sp>
          <p:nvSpPr>
            <p:cNvPr id="77" name=""/>
            <p:cNvSpPr/>
            <p:nvPr/>
          </p:nvSpPr>
          <p:spPr>
            <a:xfrm rot="16200000">
              <a:off x="4340880" y="-390960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344520" y="32220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152880" y="2174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 paradoxe du f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63400" y="836640"/>
            <a:ext cx="8427960" cy="6130080"/>
            <a:chOff x="563400" y="836640"/>
            <a:chExt cx="8427960" cy="6130080"/>
          </a:xfrm>
        </p:grpSpPr>
        <p:grpSp>
          <p:nvGrpSpPr>
            <p:cNvPr id="81" name=""/>
            <p:cNvGrpSpPr/>
            <p:nvPr/>
          </p:nvGrpSpPr>
          <p:grpSpPr>
            <a:xfrm>
              <a:off x="563400" y="836640"/>
              <a:ext cx="2208240" cy="6130080"/>
              <a:chOff x="563400" y="836640"/>
              <a:chExt cx="2208240" cy="6130080"/>
            </a:xfrm>
          </p:grpSpPr>
          <p:pic>
            <p:nvPicPr>
              <p:cNvPr id="82" name="" descr=""/>
              <p:cNvPicPr/>
              <p:nvPr/>
            </p:nvPicPr>
            <p:blipFill>
              <a:blip r:embed="rId4"/>
              <a:srcRect l="32463" t="0" r="0" b="0"/>
              <a:stretch/>
            </p:blipFill>
            <p:spPr>
              <a:xfrm>
                <a:off x="2165400" y="836640"/>
                <a:ext cx="534960" cy="602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971640" y="2852640"/>
                <a:ext cx="1800000" cy="41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ffffff"/>
                    </a:solidFill>
                    <a:latin typeface="Arial"/>
                  </a:rPr>
                  <a:t>Extê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ffffff"/>
                    </a:solidFill>
                    <a:latin typeface="Arial"/>
                  </a:rPr>
                  <a:t>Très élev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ffffff"/>
                    </a:solidFill>
                    <a:latin typeface="Arial"/>
                  </a:rPr>
                  <a:t>Elev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ffffff"/>
                    </a:solidFill>
                    <a:latin typeface="Arial"/>
                  </a:rPr>
                  <a:t>Modér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ffffff"/>
                    </a:solidFill>
                    <a:latin typeface="Arial"/>
                  </a:rPr>
                  <a:t>Rédu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-1139040" y="3618360"/>
                <a:ext cx="37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600" spc="-1" strike="noStrike">
                    <a:solidFill>
                      <a:srgbClr val="ffff99"/>
                    </a:solidFill>
                    <a:latin typeface="Arial"/>
                  </a:rPr>
                  <a:t>Risque d’incend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771640" y="4365720"/>
              <a:ext cx="5689800" cy="642600"/>
              <a:chOff x="2771640" y="4365720"/>
              <a:chExt cx="5689800" cy="642600"/>
            </a:xfrm>
          </p:grpSpPr>
          <p:sp>
            <p:nvSpPr>
              <p:cNvPr id="86" name=""/>
              <p:cNvSpPr/>
              <p:nvPr/>
            </p:nvSpPr>
            <p:spPr>
              <a:xfrm>
                <a:off x="2771640" y="4652640"/>
                <a:ext cx="504720" cy="144360"/>
              </a:xfrm>
              <a:prstGeom prst="rightArrow">
                <a:avLst>
                  <a:gd name="adj1" fmla="val 50000"/>
                  <a:gd name="adj2" fmla="val 874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21080" y="4365720"/>
                <a:ext cx="504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800" spc="-1" strike="noStrike">
                    <a:solidFill>
                      <a:srgbClr val="ffffff"/>
                    </a:solidFill>
                    <a:latin typeface="Arial"/>
                  </a:rPr>
                  <a:t>Limite supérieur d’efficacité des moyens de lut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771640" y="1268280"/>
              <a:ext cx="6192720" cy="368280"/>
              <a:chOff x="2771640" y="1268280"/>
              <a:chExt cx="619272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771640" y="1411200"/>
                <a:ext cx="504720" cy="144360"/>
              </a:xfrm>
              <a:prstGeom prst="rightArrow">
                <a:avLst>
                  <a:gd name="adj1" fmla="val 50000"/>
                  <a:gd name="adj2" fmla="val 874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48000" y="1268280"/>
                <a:ext cx="56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ffffff"/>
                    </a:solidFill>
                    <a:latin typeface="Arial"/>
                  </a:rPr>
                  <a:t>Pampilhosa da Serra, Portugal, 22 437 ha, Août 20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98640" y="2073240"/>
              <a:ext cx="6192720" cy="368280"/>
              <a:chOff x="2798640" y="2073240"/>
              <a:chExt cx="619272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2798640" y="2216160"/>
                <a:ext cx="504720" cy="144360"/>
              </a:xfrm>
              <a:prstGeom prst="rightArrow">
                <a:avLst>
                  <a:gd name="adj1" fmla="val 50000"/>
                  <a:gd name="adj2" fmla="val 874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75000" y="2073240"/>
                <a:ext cx="56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800" spc="-1" strike="noStrike">
                    <a:solidFill>
                      <a:srgbClr val="ffffff"/>
                    </a:solidFill>
                    <a:latin typeface="Arial"/>
                  </a:rPr>
                  <a:t>Vidauban I et II, France, 12 390 ha, Juillet 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6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2880" y="713880"/>
            <a:ext cx="8785440" cy="649080"/>
            <a:chOff x="272880" y="713880"/>
            <a:chExt cx="8785440" cy="649080"/>
          </a:xfrm>
        </p:grpSpPr>
        <p:sp>
          <p:nvSpPr>
            <p:cNvPr id="97" name=""/>
            <p:cNvSpPr/>
            <p:nvPr/>
          </p:nvSpPr>
          <p:spPr>
            <a:xfrm rot="16200000">
              <a:off x="4340880" y="-335412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44520" y="87768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3106800" y="760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Le paradoxe du f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0480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La réduction de la vulnérabilité face aux incendies et le développement durable des espaces forestiers du sud de l’Europe exig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3173400"/>
            <a:ext cx="68421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une rupture dans les modalités de gestion du feu, fondée sur l’utilisation du </a:t>
            </a:r>
            <a:r>
              <a:rPr b="0" lang="pt-PT" sz="2400" spc="-1" strike="noStrike" u="sng">
                <a:solidFill>
                  <a:srgbClr val="ffffff"/>
                </a:solidFill>
                <a:uFillTx/>
                <a:latin typeface="Arial"/>
              </a:rPr>
              <a:t>brûlage dirigé et du feu tac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le transfert de connaissance et de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200" y="5091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L’objectif principal de FIRE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5450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réer les bases scientifiques et techniques pour la définition de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nouvelles pratiques et politiques</a:t>
            </a:r>
            <a:br>
              <a:rPr sz="2400"/>
            </a:b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de gestion intégrée du feu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7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08840" y="1600200"/>
            <a:ext cx="3035160" cy="52578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72880" y="158400"/>
            <a:ext cx="8785440" cy="649080"/>
            <a:chOff x="272880" y="158400"/>
            <a:chExt cx="8785440" cy="649080"/>
          </a:xfrm>
        </p:grpSpPr>
        <p:sp>
          <p:nvSpPr>
            <p:cNvPr id="107" name=""/>
            <p:cNvSpPr/>
            <p:nvPr/>
          </p:nvSpPr>
          <p:spPr>
            <a:xfrm rot="16200000">
              <a:off x="4340880" y="-390960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344520" y="32220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2214720" y="1922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Vers une gestion intégrée du f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9360" y="1284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Une vision séquentielle et complète de la 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08720" y="1779480"/>
            <a:ext cx="3382920" cy="266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50040" y="4273560"/>
            <a:ext cx="344628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870200" y="1779480"/>
            <a:ext cx="3600360" cy="2701800"/>
            <a:chOff x="1870200" y="1779480"/>
            <a:chExt cx="3600360" cy="270180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1870200" y="1779480"/>
              <a:ext cx="3600360" cy="27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870200" y="1779480"/>
              <a:ext cx="159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cc00"/>
                  </a:solidFill>
                  <a:latin typeface="Arial"/>
                </a:rPr>
                <a:t>Brûlage dirig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62800" y="347184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cc00"/>
                </a:solidFill>
                <a:latin typeface="Arial"/>
              </a:rPr>
              <a:t>Mise à f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908000" y="4299120"/>
            <a:ext cx="3600720" cy="255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66920" y="63882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cc00"/>
                </a:solidFill>
                <a:latin typeface="Arial"/>
              </a:rPr>
              <a:t>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9280" y="636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cc00"/>
                </a:solidFill>
                <a:latin typeface="Arial"/>
              </a:rPr>
              <a:t>Feu tac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3160" y="525240"/>
            <a:ext cx="8970480" cy="649080"/>
            <a:chOff x="173160" y="525240"/>
            <a:chExt cx="8970480" cy="649080"/>
          </a:xfrm>
        </p:grpSpPr>
        <p:sp>
          <p:nvSpPr>
            <p:cNvPr id="121" name=""/>
            <p:cNvSpPr/>
            <p:nvPr/>
          </p:nvSpPr>
          <p:spPr>
            <a:xfrm rot="16200000">
              <a:off x="4333680" y="-3635280"/>
              <a:ext cx="649080" cy="89704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246240" y="689040"/>
              <a:ext cx="13971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1792440" y="571680"/>
            <a:ext cx="74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Un programme de travail centré autour du f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85760" y="3486240"/>
            <a:ext cx="24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xes intégr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8173800" cy="5029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8880" y="612360"/>
            <a:ext cx="8785440" cy="649080"/>
            <a:chOff x="488880" y="612360"/>
            <a:chExt cx="8785440" cy="649080"/>
          </a:xfrm>
        </p:grpSpPr>
        <p:sp>
          <p:nvSpPr>
            <p:cNvPr id="129" name=""/>
            <p:cNvSpPr/>
            <p:nvPr/>
          </p:nvSpPr>
          <p:spPr>
            <a:xfrm rot="16200000">
              <a:off x="4556880" y="-3455640"/>
              <a:ext cx="649080" cy="87854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560520" y="776160"/>
              <a:ext cx="136836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2430360" y="646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Brûlage dirigé d’une garr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20696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90640" y="1909800"/>
            <a:ext cx="7572240" cy="50212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04880" y="828360"/>
            <a:ext cx="8785080" cy="649080"/>
            <a:chOff x="704880" y="828360"/>
            <a:chExt cx="8785080" cy="649080"/>
          </a:xfrm>
        </p:grpSpPr>
        <p:sp>
          <p:nvSpPr>
            <p:cNvPr id="135" name=""/>
            <p:cNvSpPr/>
            <p:nvPr/>
          </p:nvSpPr>
          <p:spPr>
            <a:xfrm rot="16200000">
              <a:off x="4772880" y="-3239280"/>
              <a:ext cx="649080" cy="87850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666633">
                    <a:alpha val="90196"/>
                  </a:srgbClr>
                </a:gs>
                <a:gs pos="100000">
                  <a:srgbClr val="0033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776160" y="992160"/>
              <a:ext cx="136800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646360" y="8618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99"/>
                </a:solidFill>
                <a:latin typeface="Arial"/>
              </a:rPr>
              <a:t>Brûlage dirigé sous pinè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3:04:10Z</dcterms:created>
  <dc:creator>Rigolot</dc:creator>
  <dc:description/>
  <dc:language>en-US</dc:language>
  <cp:lastModifiedBy>Admin</cp:lastModifiedBy>
  <cp:lastPrinted>2002-12-02T10:04:41Z</cp:lastPrinted>
  <dcterms:modified xsi:type="dcterms:W3CDTF">2007-10-05T09:38:19Z</dcterms:modified>
  <cp:revision>200</cp:revision>
  <dc:subject/>
  <dc:title>Comportement des coupures</dc:title>
</cp:coreProperties>
</file>